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3ED-4A0E-4D06-BE7A-7A4757C8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58B-A989-427E-9F6A-ECDBD8B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3CB-96C5-4937-97D8-D31971C7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07A-3B93-4BC6-BD70-88822AE2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3E1-EF2C-4C8C-90F1-B63C50D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2C9-5AAA-4E19-AB02-4E17A93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354-3336-4DB0-ACF1-5D1C276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519-B1F4-4725-A8AD-DC513DAD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8D9-C9B6-4025-AD68-5BEDF58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CDD-EAAC-49EF-BEA8-DCBA162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9B6-1397-434D-A2F0-755C545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C81-359D-4287-8548-4213690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4D36-D0CF-4F53-80D1-0C74382B728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s for system direc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:\Program files\&lt;package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usr/&lt;package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usr/local/&lt;package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make_minimum_required(VERSION 2.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oject(myproje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dd_executable(hello2 hello.cp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arget_link_libraries(hello2 ${YARP_LIBRARIE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 c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 "Enable debugging messages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(STATUS "Debugging messages are enabl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3-07-15T21:53:29Z</dcterms:modified>
  <cp:revision>33</cp:revision>
  <dc:subject/>
  <dc:title>CMake</dc:title>
</cp:coreProperties>
</file>